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4342F-FADF-4A9E-81DD-AF945D21E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82DF8-52B3-4E1D-9891-D95E06CF3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04913-363B-47DB-AC0B-2BB573EC2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3E6F3-9A2A-4A0C-B8FB-6C90B1958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8A20D-E3A6-4710-BDD0-1B636DDEB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5EE1B-78A7-4206-AEED-FB375E556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1285A-1E59-48D6-BEC7-FE003B36B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F85A3-E8DB-4A22-9BAF-393432A82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C3328-6F39-44A9-9191-957749D2D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F3403-3022-485F-A1CA-A471E6238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F8C62-B80E-4BD4-98F8-9DFDC6BC5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5B280-EFFF-4DFE-BB77-26D5F0EAB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9B15-FB69-415C-AB24-762FC0A97C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3:55:50Z</dcterms:modified>
  <cp:revision>45</cp:revision>
  <dc:subject/>
  <dc:title>SALARIUL</dc:title>
</cp:coreProperties>
</file>